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629-84AD-4A39-9B3B-47107F32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009-2FF4-47EB-880E-6F5BB54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B1F-2FDA-45D8-8CD7-0B00778CE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5D5B-7022-41C6-8191-7F6D6C9D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2E9-F906-4C0B-A36D-0EA8EC44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CD4-A8E4-4712-A408-386858CB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1C9-B06C-4B80-B88A-E526A461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531-00BE-4277-BD11-2CC41978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C0C-3224-46A4-9746-D151DA8C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EF5D-44E1-4BCF-AECA-C771E163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F03-E7C3-497E-A131-CDBEE8F7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E94-6BEA-4D72-A009-E1FC84D2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179C-AAE3-45DF-B075-61BB7119C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4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4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8" name="Object 10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49" name="Line 11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2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5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5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5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6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6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6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7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7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7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8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8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8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533520"/>
            <a:ext cx="7620120" cy="5715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4495680" y="685800"/>
            <a:ext cx="0" cy="556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19320" y="1066680"/>
            <a:ext cx="2743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1066680"/>
            <a:ext cx="289584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INEMA DANTE ALIGH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BATO 17 APRIL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E 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HNNY STECCH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 Roberto Benig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ulti :$8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mbini : $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6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96" name="Object 7" descr=""/>
          <p:cNvPicPr/>
          <p:nvPr/>
        </p:nvPicPr>
        <p:blipFill>
          <a:blip r:embed="rId2"/>
          <a:stretch/>
        </p:blipFill>
        <p:spPr>
          <a:xfrm>
            <a:off x="7924680" y="304920"/>
            <a:ext cx="914400" cy="912600"/>
          </a:xfrm>
          <a:prstGeom prst="rect">
            <a:avLst/>
          </a:prstGeom>
          <a:ln w="0">
            <a:noFill/>
          </a:ln>
        </p:spPr>
      </p:pic>
      <p:pic>
        <p:nvPicPr>
          <p:cNvPr id="97" name="Object 8" descr=""/>
          <p:cNvPicPr/>
          <p:nvPr/>
        </p:nvPicPr>
        <p:blipFill>
          <a:blip r:embed="rId3"/>
          <a:stretch/>
        </p:blipFill>
        <p:spPr>
          <a:xfrm>
            <a:off x="7772400" y="54864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8" name="Object 9" descr=""/>
          <p:cNvPicPr/>
          <p:nvPr/>
        </p:nvPicPr>
        <p:blipFill>
          <a:blip r:embed="rId4"/>
          <a:stretch/>
        </p:blipFill>
        <p:spPr>
          <a:xfrm>
            <a:off x="304920" y="5410080"/>
            <a:ext cx="1003320" cy="1127160"/>
          </a:xfrm>
          <a:prstGeom prst="rect">
            <a:avLst/>
          </a:prstGeom>
          <a:ln w="0">
            <a:noFill/>
          </a:ln>
        </p:spPr>
      </p:pic>
      <p:sp>
        <p:nvSpPr>
          <p:cNvPr id="99" name="Line 10"/>
          <p:cNvSpPr/>
          <p:nvPr/>
        </p:nvSpPr>
        <p:spPr>
          <a:xfrm>
            <a:off x="4495680" y="6248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4495680" y="-3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8:36:54Z</dcterms:created>
  <dc:creator>ValeriaP</dc:creator>
  <dc:description/>
  <dc:language>en-US</dc:language>
  <cp:lastModifiedBy>Valeria</cp:lastModifiedBy>
  <cp:lastPrinted>1999-04-14T18:43:38Z</cp:lastPrinted>
  <dcterms:modified xsi:type="dcterms:W3CDTF">2008-04-24T15:56:04Z</dcterms:modified>
  <cp:revision>2</cp:revision>
  <dc:subject/>
  <dc:title>No Slide Title</dc:title>
</cp:coreProperties>
</file>